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24A16-5746-4713-9696-E974940E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BC61B-1987-4B2D-A472-1E579053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2F314-E421-4B16-BBBB-F9382BFB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E09E2-8F89-4AA0-B31E-5207D5FC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80352-EAE1-47D0-A444-A21F1793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1E0EB0-404A-404D-8932-85D021D6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9EB244-8EEE-4002-9618-C215AAE39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20C7E-2028-4122-BB81-2DF7FB09E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CCFFFC-8B6F-4D00-AF41-B2B6B42B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8DE13E-4AC3-493C-BE00-6A799DC7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ECC99-1259-4A55-B0A6-1D0A6DA25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45D88-1B45-4032-9081-5D82FBD31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57B-8F17-42C9-A428-85CF582A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2ED-CF39-475B-85E8-9C45741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84D-2874-4BE0-A163-C11C9C9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854-22D2-4A04-A1DD-5407CBB6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A7C8-8CEA-4D31-BDCF-BF236380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857C-05FA-45EF-BF40-BEA22D1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56ED-08D6-4D5B-80F0-26A5254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2D4-DAF8-49BF-98C6-46CFFC2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F11-BAC1-40C5-A2E2-80736956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D3BB-5D33-478C-81D3-5C13290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80D-35AA-4F3C-9A08-0389B88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D54-B9DD-4E38-A4A3-CE358555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B87-AB8E-4FEE-88F7-C3DE2AA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1B0E-7DBD-4C12-B547-F06082B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CA3-8E9E-4053-ACD2-DFA4A2A8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1671-BBD5-49F4-9DC7-CE8F68CE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B1E0-FB74-4039-8C01-FC0557B3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3B62-E5EA-4F5E-9913-6F24D78F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021D-4C93-41ED-B506-1963151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9A92-8010-4191-AA69-36038EAD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DCF9-B78B-432B-AABA-809F46C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1480-9B25-48D2-856A-0547846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299-ECA7-4673-BF33-F6DE5563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6C45-791B-49C2-96B9-148C5CDE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9253-23B0-4CBA-AE8A-FBCBF74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9264-1A7D-4D09-A68F-98E0372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F327-DFE3-46D7-BE26-1E88DA9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A708-2310-4CE3-A5BF-0289184B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EA9E-CF97-4BAC-A732-FC4F3358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B69F-DB97-475A-999F-BE3D5573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C674-3505-4253-98E0-6016941B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D969-5D5A-44DC-BAAD-5A162064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898B-61D6-448A-BD5E-43B8B7B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F19-EFEE-460F-9571-0212E85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A7C4-6439-4DDB-97A3-09EF9C4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664D-A5E7-4570-A63D-BA711E7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B961-1793-4094-A742-A9EC327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7857-26DC-432B-B494-3D4227C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945B-C809-47F5-AC0C-DD04842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A9F9-FE69-4A02-9808-8B1A654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C56E-E171-4116-8F7C-257F4A8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CE09-8A78-402B-A22E-7D4DF81C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1903-8FC9-47C4-BADB-7A9E4ADA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2DED-0043-4DD2-89E0-9A4B550E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4F0-17EB-439D-8AF3-A206127B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3A18-A089-45F9-A7FA-8CEA846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B298-5A9A-484A-A730-8546AF35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D4E4-D31F-4C52-AC3C-DF56746B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AA55-2DD8-456B-B236-7C4CB51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0349-3BE3-4430-ABBA-443E7ED3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8BCB-8305-4283-8437-8B6167B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28EF-3ADC-4F29-A6EA-3DEE5BE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C4A6-47C8-43B2-B68F-94BF0FA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E1F5-AD9E-468C-A299-3D7A08EE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4D8C5-0903-4F47-9C18-B7BA4BDA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597-8AD4-4D54-8915-0C330722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B037-47DE-42E3-A167-E3A169B6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7E6-273A-4E6C-A4F4-D6D325F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685-CFAB-499A-9EDC-212F3A2C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74F-F2C4-4253-86A5-99C2070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D799-7F2E-43EE-9FD7-6A22E46D1C0E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4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60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4E5-4955-4030-93AA-014A1418C1FA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11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683-AFB9-40E4-A982-28D7C3E748AD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B58F-873F-4BD8-A2D7-55936459EBDD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07" name="Picture 8" descr="Moçambiques flagga"/>
          <p:cNvPicPr/>
          <p:nvPr/>
        </p:nvPicPr>
        <p:blipFill>
          <a:blip r:embed="rId5"/>
          <a:stretch/>
        </p:blipFill>
        <p:spPr>
          <a:xfrm>
            <a:off x="7696080" y="22860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8A57-579C-46DA-991D-82B73F67D963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00"/>
                </a:solidFill>
                <a:latin typeface="Constantia"/>
              </a:rPr>
              <a:t>TIPOS DE ENERGIA, VANTAGENS E DESVANTAGEN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Apresentação por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Jose Fenandes Quelha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nstantia"/>
              </a:rPr>
              <a:t>CHIMOIO, Outubro  2008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FA4-94A2-4419-8C73-63DE741FE1CE}" type="slidenum">
              <a:rPr b="0" lang="pt-P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1257120" cy="1296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7"/>
          <p:cNvSpPr/>
          <p:nvPr/>
        </p:nvSpPr>
        <p:spPr>
          <a:xfrm>
            <a:off x="2057400" y="1676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RECCAO PROVINCIAL DOS RECURSOS MINERAIS E ENERGIA DE MANIC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704520"/>
            <a:ext cx="85345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9900"/>
                </a:solidFill>
                <a:latin typeface="Arial"/>
              </a:rPr>
              <a:t>A Energia Hidrául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 forma de energia usa a pressão d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a para movimentar turbinas que estejam ligadas a geradores de corrente eléctrica em alguns casos constroem-se barragem para represar os rios e com muita pressão 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a acumulada e injectada as turbinas girando-a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8D9-2104-49B8-8EC3-E0634096DE7F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84" name="Picture 12" descr=""/>
          <p:cNvPicPr/>
          <p:nvPr/>
        </p:nvPicPr>
        <p:blipFill>
          <a:blip r:embed="rId1"/>
          <a:stretch/>
        </p:blipFill>
        <p:spPr>
          <a:xfrm>
            <a:off x="4876920" y="1935000"/>
            <a:ext cx="4267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Energia Hidrául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Vantage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É um recurso renovável e limp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plicável para a produção de electricidade a custo relativamente mais baixo por cada MW em relação a outras fontes de energ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9900"/>
                </a:solidFill>
                <a:latin typeface="Arial"/>
              </a:rPr>
              <a:t>Desvantage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Forte impacto ambiental através da inundação de áreas habitadas pelas populaçõ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estruição da flora e da faun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istância considerável entre o ponto de geração e o ponto de consum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s secas diminuem o volume d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gua nos tanques perdendo-se a capacidade de produção de energ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9900"/>
                </a:solidFill>
                <a:latin typeface="Constantia"/>
              </a:rPr>
              <a:t>A Energia Solar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É a energia obtida através da conversão directa da luz em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lectricidade e aquecimento de àgu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 u="sng">
                <a:solidFill>
                  <a:srgbClr val="009900"/>
                </a:solidFill>
                <a:uFillTx/>
                <a:latin typeface="Constantia"/>
              </a:rPr>
              <a:t>Vantagen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Não poluí durante o seu uso, é renovável e existe em abundânc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Baixa manutenção e fácil instalaçã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xcelente aplicabilidade em lugares remotos ou de difícil acess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Em pequena escala não requer linhas de transmissã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Constantia"/>
              </a:rPr>
              <a:t>Alta vida útil dos painéis solares (25 anos em media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8" descr="solar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81916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BB2-61B9-47EB-9771-4BAB5D14159C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1" name="Picture 14" descr="fdr"/>
          <p:cNvPicPr/>
          <p:nvPr/>
        </p:nvPicPr>
        <p:blipFill>
          <a:blip r:embed="rId2"/>
          <a:stretch/>
        </p:blipFill>
        <p:spPr>
          <a:xfrm>
            <a:off x="5181480" y="4589640"/>
            <a:ext cx="3962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9900"/>
                </a:solidFill>
                <a:uFillTx/>
                <a:latin typeface="Constantia"/>
              </a:rPr>
              <a:t>Desvantagem (Sola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usto inicial elevado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riação nas quantidades produzidas de acordo com a situação climática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urante a noite não existe pro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ã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alguma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istência de meios de armazenamento da energia produzida durante o d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137160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9900"/>
                </a:solidFill>
                <a:uFillTx/>
                <a:latin typeface="Arial"/>
              </a:rPr>
              <a:t>Energia Eólic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 a energia obtida pelo movimento do vento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Vantage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um recurso limpo e renovável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abundante na natureza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do para a produção de electricidade, bombagem de água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tempo de vida das turbinas é de aproximadamente 20 ano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terreno ocupado pelos parques eólicos pode ser utilizado para outros fins, como a agricultura.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7" name="Picture 8" descr="per0080p"/>
          <p:cNvPicPr/>
          <p:nvPr/>
        </p:nvPicPr>
        <p:blipFill>
          <a:blip r:embed="rId1"/>
          <a:stretch/>
        </p:blipFill>
        <p:spPr>
          <a:xfrm>
            <a:off x="5753160" y="1295280"/>
            <a:ext cx="3390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1447920"/>
            <a:ext cx="54864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Desvantagen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produção de energia depende da disponibilidade do recuso eólico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missão de ruídos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acto visual, efeito de sombras em movimento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acto ambiental (Migração das aves)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Interferências electromagnéticas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buClr>
                <a:srgbClr val="009d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1" name="Picture 5" descr="wind"/>
          <p:cNvPicPr/>
          <p:nvPr/>
        </p:nvPicPr>
        <p:blipFill>
          <a:blip r:embed="rId1"/>
          <a:stretch/>
        </p:blipFill>
        <p:spPr>
          <a:xfrm>
            <a:off x="5610240" y="1981080"/>
            <a:ext cx="3533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704880"/>
            <a:ext cx="89917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6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8" descr="fdr"/>
          <p:cNvPicPr/>
          <p:nvPr/>
        </p:nvPicPr>
        <p:blipFill>
          <a:blip r:embed="rId1"/>
          <a:stretch/>
        </p:blipFill>
        <p:spPr>
          <a:xfrm>
            <a:off x="4800600" y="457200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Picture1"/>
          <p:cNvPicPr/>
          <p:nvPr/>
        </p:nvPicPr>
        <p:blipFill>
          <a:blip r:embed="rId2"/>
          <a:stretch/>
        </p:blipFill>
        <p:spPr>
          <a:xfrm>
            <a:off x="4800600" y="2057400"/>
            <a:ext cx="4343400" cy="2313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Constantia"/>
              </a:rPr>
              <a:t>Energia S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nstantia"/>
              </a:rPr>
              <a:t>Fotovolta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Electrificação rural em que os hospitais e as escolas são o foco principal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Ligação de sistemas de Telecomunicaçõ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Sistemas de bombeamento de á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nstantia"/>
              </a:rPr>
              <a:t>Energia Térm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Utilização para aquecimento de á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5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Arial"/>
              </a:rPr>
              <a:t>Biomassa Tradicion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 de fornos melhorados para a queima do carvão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dução da devastação dos recursos  florest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9E5-6643-41DB-A89E-D2EAF22BFB2C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5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iomassa Tradi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rodução de fogões melhorados para uso domestico e institucion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dução do consumo lenha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527-1AC9-4BD8-BA9C-0D274276BF1E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3" name="Picture 6" descr="F:\fotos DNER\PA150053.JPG"/>
          <p:cNvPicPr/>
          <p:nvPr/>
        </p:nvPicPr>
        <p:blipFill>
          <a:blip r:embed="rId1"/>
          <a:stretch/>
        </p:blipFill>
        <p:spPr>
          <a:xfrm>
            <a:off x="4952880" y="990720"/>
            <a:ext cx="3962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Calibri"/>
              </a:rPr>
              <a:t>Experiência do Pa</a:t>
            </a:r>
            <a:r>
              <a:rPr b="1" lang="pt-PT" sz="2400" spc="-1" strike="noStrike">
                <a:solidFill>
                  <a:srgbClr val="009900"/>
                </a:solidFill>
                <a:latin typeface="Calibri"/>
                <a:ea typeface="Times New Roman"/>
              </a:rPr>
              <a:t>ís em Matéria de Energias Renováveis</a:t>
            </a: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Biomassa Modern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o combustívei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íquidos (Biodiesel e Etanol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ECOMOZ tem instalado na Matola uma fabrica de produção de biodiese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86D8-1335-43F1-A0E9-69636D7869F9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7854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Introduçã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Conceito de Energi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Formas de Energia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nstantia"/>
              </a:rPr>
              <a:t>Vantagens e Desvantagens</a:t>
            </a:r>
            <a:r>
              <a:rPr b="1" lang="pt-P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830E-62C5-4114-B93F-9233E3DD6BA3}" type="slidenum">
              <a:rPr b="0" lang="pt-P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68580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66ff66"/>
                </a:solidFill>
                <a:uFillTx/>
                <a:latin typeface="Arial"/>
              </a:rPr>
              <a:t>Conteúdo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Experiência do Pa</a:t>
            </a:r>
            <a:r>
              <a:rPr b="1" lang="pt-PT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ís em Matéria de Energias Renovávei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Energia Eó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as de bombeamento de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ua para consumo e irrigaçã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32C-9829-4E06-A923-EA6B118B088F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20" name="Content Placeholder 7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PONTO DE SITUACAO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( ENERGIAS NOVAS RENOVAVEIS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JECTOS REALIZADO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NERGIA DE BIOMASS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tres seminarios nos acampamentos de Garimpo nomeadamente Bandira Tsetsera( Sussundenga)  e Munhena( Manica) para dessiminacao de tecnicas de fogoes melhorados que beneficiou a 90 garimpeiros.(2006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dois seminarios para a dessiminacao de de fogoes melhorados nos distritos de Guro e Tambara onde participaram 60 mulheres.(2006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izacao de um curso,de formacao de oleiros no Bairro trangapasso na cidade de Chimoio, onde foram formados 10 Oleiros, sendo 5 Mulheres e 5 Homens.(2007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omas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10 fogoes instituicionais fixos em diferentes instituicao, nomeadamente: Lar Bagamoio, Sabedoria de Deus, IAC, ADPP, Centro de saude Gongola, Internato de Mazicuera, Infatario de Nhamaonha, Centro de Saude de Nhamanhona, Cadeia Provincial, e Quartel de Chimoio.(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lizacao de uma  feira de fogoes melhorados  na praca dos namorados junto a praca dos Herois Mocambicanos na Cidade de Chimoio(2007), visitada por  mais de 100 pessoas( vendidos 5 fogoes movei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omas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lizacao de curso de formacao de carvoeirosem Muda Serracao, no distrito de Gondola em tecnicas melhoradas de carvao vejetalonde participaram 30 carvoeiros oriundos dos ditritos de Gondola, Manica e Sussundenga.(2006)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ia Hidr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em Honde, Distrito de Barue, beneficia a 28 consumidores, mas tem capacidade para beneficiar a 100 consumidores( Marco de 2008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ida a construcao do primeiro sistema Hidroelectrico de pequena escala na povoacao de Chua, Distrito de Manica e prossegue a construcao do segundo sistema no Ambito do projecto AMES( Acesso a Servico Moderno de Energia) ate Dezembro de 2008 serao construidos mais dois sistemas semelhan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IA SO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da Escola e Centro de Saude em Chipindaumue no distrito de Gondola e uma Escola   em Honde no distrito de Barue. (2005 financiamento do DED) Servico Alemao para desenvolvimento tecn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cao de Mavonde( Manica), Mungari(Guro) com recurso a sistema fotovoltaico tendo beneficiado cerca de 131 pessoas sendo 65 em Mungari e 66 em Manv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os propo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uma central hidrica de pequena escala Sembezeia no Distrito de Sussundenga e reabilitacao da mini hidrica de Rondata no mesmo Dist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em Rontada sobre o Rio Mutsineme, com capacidade de 700K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bilicao e ampliacao de pequeno sistema hidrico do sr Peter Waziwei em Inhazonia distrito de Bar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de pequena escala no posto Administrativo de Choa no distrito de Barue com capacidade de 160K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rucao de uma central hidroelectrica de pequena escala no posto Administrativo de Mavonde no distrito de Manica com capacidade de 160K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tificacao de mais locais com potencial para construcao de centrais hidrielectricas de pequenas escal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.SO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ificao de 30 escolas e 30 centros de saude nos Distritos de Tambara, Guro, Macossa, Mussurize e Machaz.com recurso a energia solar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UITO OBRIGADO PELA ATENCA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Introdução (Conceito de energia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5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conceito que a sociedade tem sobre energia é, em regra geral, extremamente superficial, pois ele restringe-se à aqueles tipos de energia relacionados ao dia-a-dia de cada um, como a energia eléctrica para a iluminação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capacidade de produzir trabalho. Esta palavra surge sempre associada à capacidade de poder fazer qualquer coisa acontecer. A energia manifesta-se  de diversas formas: Calor, movimento ou luz.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B685-34BD-457F-9982-73DEF51703D5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Arial"/>
              </a:rPr>
              <a:t>Introdução (Conceito de energia</a:t>
            </a: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Utilidad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ara a produção de alimentos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Bens de consumo, de serviço e de produção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Lazer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Arial"/>
              </a:rPr>
              <a:t>Promoção do desenvolvimento sócio-económico, e cultural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9900"/>
                </a:solidFill>
                <a:latin typeface="Calibri"/>
              </a:rPr>
              <a:t> </a:t>
            </a:r>
            <a:br>
              <a:rPr sz="1600"/>
            </a:b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Formas de Energia</a:t>
            </a: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9900"/>
                </a:solidFill>
                <a:uFillTx/>
                <a:latin typeface="Arial"/>
              </a:rPr>
              <a:t>Energia não renovável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É aquela que é obtida à partir de fontes naturais que não sejam capazes de se regenerar.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etróleo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arvão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Gás natura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9900"/>
                </a:solidFill>
                <a:uFillTx/>
                <a:latin typeface="Arial"/>
              </a:rPr>
              <a:t>Energia renováve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aquela que é obtida à partir de fontes naturais capazes de se regener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Energia d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Biomas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Hidrául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Energi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Eólica</a:t>
            </a: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770-215C-4CDC-90C1-90D115C23B5D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Energias Renováveis Vantagens em Relação às Energias Convenciona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consumo de energias convencionais ou seja, petróleo, gás natural e carvão emite anualmente toneladas de CO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a atmosfera. O CO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é o maior responsável pelo aumento do efeito estufa, fazendo com que a Temperatura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a do globo aument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elevada procura e consumo das E. convencionais levará a que estes se esgotem pelo facto de os esgotarmos mais rapido do que o tempo necessário para que a natureza os produza novamente. Assi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Arial"/>
              </a:rPr>
              <a:t>Energias Renováveis Vantagens em Relação às Energias Convenciona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necessário a utilização de E.R. pois não se esgotam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o mais limpas e não emitem gases com efeito estufa, sendo excepção a biomassa que origina quantidades insignificantes de CO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 e N</a:t>
            </a:r>
            <a:r>
              <a:rPr b="0" lang="pt-PT" sz="2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O para a atmosfera;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</a:rPr>
              <a:t>A exploração local das E.R. Contribui para reduzir a dependência energética relativamente a importação do petróle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alibri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638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00"/>
                </a:solidFill>
                <a:latin typeface="Arial"/>
              </a:rPr>
              <a:t>A Energia da Biomas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 biomassa é o material que normalmente imaginamos como lixo. São restos e sobras de toda a espécie: árvores mortas, ramos de árvores, cascas de árvores e serradura que sobram nas carpintarias, óleos vegetais, a cana-de-açúcar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obras de colheita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A biomassa pode ser aproveitada para produzir electricidade reduzindo a necessidade de recorrer a outras fontes de energia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Cerca de 80% da população moçambicana usa a biomassa para as suas actividades diá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88A-D59B-43AB-AA67-BC0571CF59B1}" type="slidenum">
              <a:rPr b="0" lang="pt-P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8" name="Picture 6" descr="F:\fotos DNER\PA150053.JPG"/>
          <p:cNvPicPr/>
          <p:nvPr/>
        </p:nvPicPr>
        <p:blipFill>
          <a:blip r:embed="rId1"/>
          <a:stretch/>
        </p:blipFill>
        <p:spPr>
          <a:xfrm>
            <a:off x="5943600" y="990720"/>
            <a:ext cx="3200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Arial"/>
              </a:rPr>
              <a:t>Formas de Energia Vantagens e Desvantage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Vantagens da Biomas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Baixo custo, e é renováve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Pode ser reutilizada e transformada noutros produtos como o papel e fertilizant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Desvantagens da Biomas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Destruição da fauna e da flora extinguindo certas espécie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A biomass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 menos eficiente por metro quadrado do que os painéis solares,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Contaminação do solo pelo uso de adubos.</a:t>
            </a:r>
            <a:r>
              <a:rPr b="0" lang="pt-PT" sz="28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12:51Z</dcterms:created>
  <dc:creator>aos</dc:creator>
  <dc:description/>
  <dc:language>en-US</dc:language>
  <cp:lastModifiedBy>pecador</cp:lastModifiedBy>
  <dcterms:modified xsi:type="dcterms:W3CDTF">2012-04-30T08:05:33Z</dcterms:modified>
  <cp:revision>334</cp:revision>
  <dc:subject/>
  <dc:title>Slide 1</dc:title>
</cp:coreProperties>
</file>